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E0E-3C05-4565-8256-60430B88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BC0-5DF5-44AB-BBC7-A852E1D5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5E3-836E-4447-A95A-B05197EA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975-6C7A-4F73-A81B-74D009A8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191-B42A-4F9D-9877-C9B61E57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25D2-D870-4EE2-A33E-46664DE3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3BDA-60F7-417D-9578-17F28AA3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FA8-0685-4E01-8847-6170EA7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A78-E54D-458A-A2BC-38E2BF75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4355-289B-43EC-8148-AE29F25D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0F3A-0F39-4269-AA9D-BD3E71CB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2D7-8981-4514-B1B3-D391CAF9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8FE5-0CB2-4FEC-9A81-F67D503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AD3-CAB0-4522-ABBD-82C8B526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72C-B2F9-4FEA-8E9E-97122C59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68CD-E99B-4E9C-AB90-BE03038F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9BC-5E1E-4CC7-AD97-C0FD3D84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0F3-7047-4698-A567-597B660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1D9-C86A-46A7-86F2-6BF3F88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958-0725-4EA3-BCF4-5A971B0A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444-99E9-4B77-AC8F-2A9D43EE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8BE-56F4-49DB-8A6D-F50E9C5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0FE-EA6A-4A1A-BF69-EC7FB46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BDC-14A7-49C7-8515-53C2F92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8F0-D1B2-4AB5-A24A-7B392F947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49F7-CB5D-4108-8087-EAF47C5493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X014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07440" y="380880"/>
            <a:ext cx="1642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彩云"/>
                <a:ea typeface="华文彩云"/>
              </a:rPr>
              <a:t>面向世界    面向未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What a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da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                      get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, I`m afrai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2767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ot                     ho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4114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et                     we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257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indy                wind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1120" y="45072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alk about we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86200" y="2523960"/>
            <a:ext cx="104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A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What`s the weather like today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B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It`s</a:t>
            </a: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cold/hot/dry/wet/rainy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sunny/cloudy/win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0"/>
            <a:ext cx="7924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win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clou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rai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now       snow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        su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n. </a:t>
            </a:r>
            <a:r>
              <a:rPr b="0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9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ad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2743200" cy="486000"/>
          </a:xfrm>
          <a:prstGeom prst="rightArrow">
            <a:avLst>
              <a:gd name="adj1" fmla="val 50000"/>
              <a:gd name="adj2" fmla="val 14111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528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2896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9840" y="9907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2896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3657600"/>
            <a:ext cx="9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 the correct adj. In the bl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:    What heavy </a:t>
            </a:r>
            <a:r>
              <a:rPr b="1" i="1" lang="en-US" sz="4400" spc="-1" strike="noStrike">
                <a:solidFill>
                  <a:srgbClr val="0000ff"/>
                </a:solidFill>
                <a:latin typeface="Abadi MT Condensed Light"/>
              </a:rPr>
              <a:t>ra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`s ver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o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9051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 It`s very               to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905120"/>
            <a:ext cx="180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12408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lou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very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97180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572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It`s very              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572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a very              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57913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0800000">
            <a:off x="1143000" y="-763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-2289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shi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re ar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u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i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now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blow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57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9051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32767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800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603396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n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X023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04200" y="1044720"/>
            <a:ext cx="34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ye-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7160" y="4865760"/>
            <a:ext cx="474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2 0 0 2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年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3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X002" descr=""/>
          <p:cNvPicPr/>
          <p:nvPr/>
        </p:nvPicPr>
        <p:blipFill>
          <a:blip r:embed="rId1"/>
          <a:stretch/>
        </p:blipFill>
        <p:spPr>
          <a:xfrm>
            <a:off x="762120" y="-1440"/>
            <a:ext cx="838188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6840" y="915840"/>
            <a:ext cx="693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What’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the  weather  lik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6960" y="396252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松阳县阳溪初中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</a:t>
            </a: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周  俏  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2600" y="59436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-mail:  zhouqia0680@sin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1981080"/>
            <a:ext cx="2057400" cy="190512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267080"/>
            <a:ext cx="2666880" cy="1371600"/>
          </a:xfrm>
          <a:prstGeom prst="cloudCallout">
            <a:avLst>
              <a:gd name="adj1" fmla="val 6430"/>
              <a:gd name="adj2" fmla="val 47800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90720"/>
            <a:ext cx="2438280" cy="1857240"/>
          </a:xfrm>
          <a:prstGeom prst="rightArrow">
            <a:avLst>
              <a:gd name="adj1" fmla="val 50000"/>
              <a:gd name="adj2" fmla="val 32821"/>
            </a:avLst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990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3716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762120"/>
            <a:ext cx="2057400" cy="16761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1814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25780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4100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029200"/>
            <a:ext cx="2286000" cy="16002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419720"/>
            <a:ext cx="198108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715000"/>
            <a:ext cx="1447920" cy="609480"/>
          </a:xfrm>
          <a:prstGeom prst="wedgeEllipseCallout">
            <a:avLst>
              <a:gd name="adj1" fmla="val 90129"/>
              <a:gd name="adj2" fmla="val -13437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3505320"/>
            <a:ext cx="1447920" cy="609480"/>
          </a:xfrm>
          <a:prstGeom prst="wedgeEllipseCallout">
            <a:avLst>
              <a:gd name="adj1" fmla="val -67763"/>
              <a:gd name="adj2" fmla="val 617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762120"/>
            <a:ext cx="1371600" cy="609480"/>
          </a:xfrm>
          <a:prstGeom prst="wedgeEllipseCallout">
            <a:avLst>
              <a:gd name="adj1" fmla="val 54513"/>
              <a:gd name="adj2" fmla="val 2432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28800"/>
            <a:ext cx="1143000" cy="609480"/>
          </a:xfrm>
          <a:prstGeom prst="wedgeEllipseCallout">
            <a:avLst>
              <a:gd name="adj1" fmla="val -128055"/>
              <a:gd name="adj2" fmla="val -291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429000" y="0"/>
            <a:ext cx="2362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81480" y="15238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824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824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9280" y="9144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819520"/>
            <a:ext cx="9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5720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        ho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y          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T029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1806480" cy="3047760"/>
          </a:xfrm>
          <a:prstGeom prst="rect">
            <a:avLst/>
          </a:prstGeom>
          <a:ln w="0">
            <a:noFill/>
          </a:ln>
        </p:spPr>
      </p:pic>
      <p:pic>
        <p:nvPicPr>
          <p:cNvPr id="165" name="KT025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72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9880" y="0"/>
            <a:ext cx="734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dat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Dec. 21st, 200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weather lik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er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971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124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971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0481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1240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loudy" descr=""/>
          <p:cNvPicPr/>
          <p:nvPr/>
        </p:nvPicPr>
        <p:blipFill>
          <a:blip r:embed="rId1"/>
          <a:stretch/>
        </p:blipFill>
        <p:spPr>
          <a:xfrm>
            <a:off x="4191120" y="3878280"/>
            <a:ext cx="4724280" cy="2674800"/>
          </a:xfrm>
          <a:prstGeom prst="rect">
            <a:avLst/>
          </a:prstGeom>
          <a:ln w="0">
            <a:noFill/>
          </a:ln>
        </p:spPr>
      </p:pic>
      <p:pic>
        <p:nvPicPr>
          <p:cNvPr id="176" name="cold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724280" cy="2590560"/>
          </a:xfrm>
          <a:prstGeom prst="rect">
            <a:avLst/>
          </a:prstGeom>
          <a:ln w="0">
            <a:noFill/>
          </a:ln>
        </p:spPr>
      </p:pic>
      <p:pic>
        <p:nvPicPr>
          <p:cNvPr id="177" name="dry" descr=""/>
          <p:cNvPicPr/>
          <p:nvPr/>
        </p:nvPicPr>
        <p:blipFill>
          <a:blip r:embed="rId3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hot" descr=""/>
          <p:cNvPicPr/>
          <p:nvPr/>
        </p:nvPicPr>
        <p:blipFill>
          <a:blip r:embed="rId4"/>
          <a:stretch/>
        </p:blipFill>
        <p:spPr>
          <a:xfrm>
            <a:off x="4343400" y="396252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rainy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0" name="snowy" descr=""/>
          <p:cNvPicPr/>
          <p:nvPr/>
        </p:nvPicPr>
        <p:blipFill>
          <a:blip r:embed="rId6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sunny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457200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wet" descr=""/>
          <p:cNvPicPr/>
          <p:nvPr/>
        </p:nvPicPr>
        <p:blipFill>
          <a:blip r:embed="rId8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windy" descr=""/>
          <p:cNvPicPr/>
          <p:nvPr/>
        </p:nvPicPr>
        <p:blipFill>
          <a:blip r:embed="rId9"/>
          <a:stretch/>
        </p:blipFill>
        <p:spPr>
          <a:xfrm>
            <a:off x="4267080" y="3886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0240" y="312408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KT010" descr=""/>
          <p:cNvPicPr/>
          <p:nvPr/>
        </p:nvPicPr>
        <p:blipFill>
          <a:blip r:embed="rId10"/>
          <a:stretch/>
        </p:blipFill>
        <p:spPr>
          <a:xfrm>
            <a:off x="1066680" y="4495680"/>
            <a:ext cx="1665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419720"/>
            <a:ext cx="198144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828800" cy="609840"/>
          </a:xfrm>
          <a:prstGeom prst="wedgeEllipseCallout">
            <a:avLst>
              <a:gd name="adj1" fmla="val 62847"/>
              <a:gd name="adj2" fmla="val 1013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ol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6172200"/>
            <a:ext cx="1295280" cy="609480"/>
          </a:xfrm>
          <a:prstGeom prst="wedgeEllipseCallout">
            <a:avLst>
              <a:gd name="adj1" fmla="val 116175"/>
              <a:gd name="adj2" fmla="val 1041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ho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57600"/>
            <a:ext cx="1371600" cy="762120"/>
          </a:xfrm>
          <a:prstGeom prst="wedgeEllipseCallout">
            <a:avLst>
              <a:gd name="adj1" fmla="val 135416"/>
              <a:gd name="adj2" fmla="val -56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dr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5334120"/>
            <a:ext cx="1752480" cy="609480"/>
          </a:xfrm>
          <a:prstGeom prst="wedgeEllipseCallout">
            <a:avLst>
              <a:gd name="adj1" fmla="val 95925"/>
              <a:gd name="adj2" fmla="val -8906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3124080"/>
            <a:ext cx="1447920" cy="762120"/>
          </a:xfrm>
          <a:prstGeom prst="wedgeEllipseCallout">
            <a:avLst>
              <a:gd name="adj1" fmla="val -25000"/>
              <a:gd name="adj2" fmla="val 11604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rain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410080"/>
            <a:ext cx="1523880" cy="762120"/>
          </a:xfrm>
          <a:prstGeom prst="wedgeEllipseCallout">
            <a:avLst>
              <a:gd name="adj1" fmla="val 69898"/>
              <a:gd name="adj2" fmla="val 366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e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523880"/>
            <a:ext cx="2133720" cy="609840"/>
          </a:xfrm>
          <a:prstGeom prst="wedgeEllipseCallout">
            <a:avLst>
              <a:gd name="adj1" fmla="val 69120"/>
              <a:gd name="adj2" fmla="val 15234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n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762120"/>
            <a:ext cx="2133360" cy="609480"/>
          </a:xfrm>
          <a:prstGeom prst="wedgeEllipseCallout">
            <a:avLst>
              <a:gd name="adj1" fmla="val -93078"/>
              <a:gd name="adj2" fmla="val 9921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8800" y="0"/>
            <a:ext cx="2442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4560" y="0"/>
            <a:ext cx="2977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762120"/>
            <a:ext cx="780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t is today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arm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later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528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dr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886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o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 coo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94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cloudy                 sunn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4:50:50Z</dcterms:created>
  <dc:creator>lp</dc:creator>
  <dc:description/>
  <dc:language>en-US</dc:language>
  <cp:lastModifiedBy>sywzmin</cp:lastModifiedBy>
  <dcterms:modified xsi:type="dcterms:W3CDTF">2002-04-03T14:59:32Z</dcterms:modified>
  <cp:revision>37</cp:revision>
  <dc:subject/>
  <dc:title>没有幻灯片标题</dc:title>
</cp:coreProperties>
</file>